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8B1C-B63C-4A35-819F-13D198D2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7F5B-C0A8-4F13-9AB4-0B5680C9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3C0DA-7EC1-40C1-B8CC-BCCE3D78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40319-30F4-45C4-9A08-18378F28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9229E-2B35-4985-8145-F2E93530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83AEE-B491-4FF4-9C8E-C939AE09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72C97-5436-4951-B375-DB7E9EEF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6D1F0-71A1-4C3B-AB1B-95DF45F3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9D804-9DE3-4B15-9C55-F857558B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26E06-B0B1-4934-BD28-F0408735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B4FB3-6580-437A-A6A7-B60C3D2C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1E9D3-14D7-49CE-9922-21355837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8BF1-869D-477D-B801-492E7006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1C8C4-25FC-4B51-97DA-38A6585A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40AB3-C61C-4F31-B191-66F0BEF3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3460B-9801-440E-91D9-95D4EAC2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40BBF-9D2F-4155-BA25-ADD96783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F3AB9-D454-4C9A-B737-C4B4EDCF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E721A-37FD-4B6E-A7D6-51BF842C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5431B-D762-4979-A39A-68BDE5D9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1C547-BB18-418C-B9A2-B7044F15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A447F-4CC7-4D29-AE8B-394B4C1F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4A878-9DC5-4499-8B8A-194EE32B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E6B-91D4-4468-A551-81361388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FBA6D-FB6F-4CC1-BAC8-4B897F70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6D851-21B0-40D3-B85C-48D414A9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B2EFF-7C57-43CE-AC9E-F901102F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F8BCA-6B92-4219-B098-8D0520A1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FFC05-9829-40E2-999B-AB071154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4DB1D-08A7-4254-B476-8BABAECD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0AF3A-2652-4026-8404-10D2C229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82C89-16FC-47F4-AB6F-9F9C028E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1F42B-DDE6-4D28-93D1-D29CA2F8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9DF79-3B75-4564-9776-7DC8A5EE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F59D-454A-47A9-8197-8DBE8394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69527-2607-403F-9F05-66B74E11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5B7EC-D195-42A8-BAC3-B309B0EC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E7275-3CF5-45A0-8A82-A9548177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F70F8-FE85-489D-9381-2F5F283D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05D4E-9AB9-4E04-AFFC-52D5B598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4315C-C10E-4F14-98A1-5846E899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B1DC8-8D16-4C43-9E94-77039CE2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9C0C6-7C16-4CA1-94F2-3A8F1F1C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A7538-B1BC-412D-B641-5CAF3F8F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D206E-C21A-4690-A7E4-D1AE5578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D76B-8B91-4F67-A431-D5432397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C02CB-F958-40E6-A2E3-0C7A5CF3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51D83-1900-4D92-AFAB-EE500EF5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44BA0-53B1-4EAB-A800-33661025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67B11-8BA2-4356-82B4-D721D029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D10F6-BEAD-4D49-92AF-0F4A6C8F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226B0-CD64-4E16-B8E9-499212D8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42BA0-1B04-4795-9BB0-094E27DC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310AD-BF90-4BA0-9366-41389788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35FCB2-D192-4A1F-BCC6-D4D229DC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4856E-6889-493A-91B1-7E7FA28D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1763-EE77-443E-B2F2-CDA4AF16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5A391B-2246-44D7-84F6-D593857F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981387-A3ED-4192-B67E-301A928F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41A8C0-8864-4B2F-8302-ABFA4C4D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DA530-1EA2-4DB1-A4BD-6DE16B96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9D274-B9EE-4E52-B082-51CB7BF1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2A81A-0AD1-4B84-B926-4B13241C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1F479-7D1F-4377-BD12-55970E53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9359A-C9D4-4B12-80C6-DE686F22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EB9A6C-5E47-44A0-8CFF-98B6D407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20AFAC-D78E-4A48-9A72-5276148E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E01D-5D89-4993-AE24-6DD103EC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93E67A-0394-4713-88E7-420306E5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EDC4F2-4646-44FC-B9A1-B191FF80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3EF2B-B7ED-46B0-ABA4-F0DF3AEF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403D3-7A3B-4057-A927-3EA25312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7BD27C-9D91-48D1-9BCF-2A470C31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EB3BD4-6DC0-4244-8F7D-CC494E70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4E65F-C1BB-4BCB-AC76-DECB3DE0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A1FDF5-EEED-4379-8968-8990E900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050821-2B28-438B-924F-78E8D270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77F06B-9167-415C-A5DA-1A2D7429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6445-BF7A-4813-8C14-2B94C08F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5817AC-E87E-4243-9B70-2671CC56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8EAA4A-8315-4003-B732-6C21AA6D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CAE0F6-B613-445A-8E7B-0CC2BC60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5CF7B-77B3-46CB-A994-31F5611E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F729E-AC49-4F21-8F84-1B0CA62C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037718-2935-49F0-B0FC-7B6B8A98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F189A-5917-48FF-804F-D48C9ACD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2861D9-F950-4B01-AD66-26A70258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62BC5C-B40F-4BA4-AEDC-9841637A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955310-76F4-44F1-B591-395C8272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A1C4-2EC2-4E42-99E9-12EAD28B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B4B383-764B-48E3-AFBF-B3E76D81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2160B7-EE38-4494-85A6-5310D781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095984-588F-4618-8697-00D6D34F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559F47-2E5C-4F46-AE03-6E2ECF9E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D0D2AD-EAC6-4649-9535-C36F7572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CF5D38-AE6D-4F90-ABD1-3F16FD56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3BA08A-AB43-4C94-98C3-0E255297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26E557-9EDE-4656-AA23-C839A647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660D23-2E0C-4784-8F1A-CA7A79AA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E61F66-57F0-4F3E-9C66-61672B20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BD55-E3E7-4C05-951F-7AFBB364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E7F62C-A034-4B1C-A095-03F87EDA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ADB776-CC5D-49E5-ADF3-4D17457E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8066A2-6EBF-4C9F-8DE0-734B53CE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738256-C50A-46A4-A5DD-2AC59B00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B8682D-9BDD-4B7F-9399-6C5A703C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6DA134-A010-4159-841E-A2D6F9CA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27E86B-E043-46F2-AF02-40D503C7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BBF577-D5A9-4090-9400-4E8ACE9E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D22C17-C2E5-491E-A980-407FFB71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82349D-1B27-4D31-8F2D-66FB2DEC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2E6-918B-4D96-9655-D25012A9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6F44-0D82-42D0-88BE-0E953108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4C6037-5897-42FA-AF95-A8EA6965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4317EA-D5C3-4951-A7A6-4986A8AE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041983-0BB6-45BD-8B35-2B63EF97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F1D77B-EF24-4A76-A711-9AB2A6DF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B55AD7-37B2-4B55-83AB-FFF5B7A5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3FF15F-EC7F-436E-AA9A-E9D8CD43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FF8969-7BDB-4E04-AC5E-4CF418B6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6C32FC-5692-40D1-8DA3-A833676E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FEB592-DB57-4116-A53B-43F72E82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743E32-2C04-4865-B753-52B0F3C0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1453-B0E3-4109-8273-B06A30F7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97F24E-C717-48EA-868C-50027AE6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96FB0E-41DC-4C7F-8BB3-05E72987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D6D1DB-53FF-4AC9-BDB4-DD9A1A6D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24664D-CC5E-4A49-84B8-FE66B899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CD4E5-E35E-4487-AFBB-3792EA97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5D7F5E-4040-434C-80E9-4CBBF603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AA0F29-1A39-45A7-94DF-BEB63642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B8A948-AEA2-4F18-B5DC-1BAAD403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3A21BC-8549-4E0E-A744-10CD101F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435468-254B-4760-8353-20152DC2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6649-352E-4B28-8AB7-EBDD56A0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33BF20-594F-4EF1-96A1-02EA5513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5EF519-7FCB-46FF-BD1B-0C18F2B3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08F51C-78AE-4BD3-B66A-FA4A1E06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64E6D2-B442-4D4A-A79D-0557738A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11C1DB-DB64-40F8-9954-8D890108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037FAA-CC63-4FBC-94B3-25AFF2DB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E2F531-3E8C-453D-BBCD-F8794721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EA63E5-6384-48DA-83E8-74F9BFD6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87E5FB-819C-4DE9-A096-C26418BA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2507AD-7D0A-4A9A-AEE8-1C0009BD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0969-77AB-4BB9-AA88-2F535354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F1645F-B417-49A3-96C2-B3876591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B815D0-468F-4FA9-91E9-FE43C1DF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2A27AF-7EF5-482A-A7DD-5A9B8917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121DCB-F5EE-4D2F-8956-6DC5FB78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20B10F-FE01-4FD4-A6D5-7C024A11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B0A4F5-35E3-46C3-82B7-AE14D854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F5F849-9BB6-4F8E-8982-37C6390D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C99BF4-0DB7-4169-B778-E8FF35D1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A9B642-97EC-4C50-AF73-60EEC804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9D87C0-B36D-4C68-AA69-9F022165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F9DC-1770-4363-8E01-90B22F07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863CB7-569F-43EC-B33A-F7819B09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FFF1B0-C20F-4D69-BEF1-BC827593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662147-BB00-4AC8-A068-486DF0C3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0EABDC-BD44-40E3-AC7F-806D0057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761D33-CCBC-4B5D-9AEE-9EE8759B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E01A76-6A9D-4679-BC86-48C02005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6D06AC-3583-4355-9F18-C49DBCC3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D4BD98-7359-4DC5-9F7E-D43F6366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B6616F-6CCF-45FF-BDE5-560680E6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E4B679-6630-46C6-9AFA-DF0E1008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776FD-53E8-4BF7-919D-4305383F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B7ECA4-2445-4318-B8CE-83518281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8E35B1-FC25-4365-BB2A-933FDBE7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F7DC1C-CDB7-495B-AD3F-984CC25F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B45482-DB58-46CF-B34B-D0C3160E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B1A528-4A80-4FDC-9091-B33A7F6C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BE7DA1-981C-4CA4-9566-0091E6A9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DB17CD-4241-4558-AA34-13A79D2A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8B47DE-639B-4D95-BD6F-F207A1CF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8B2AD6-B045-4191-8EAF-9D41F97B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734565-DFFF-47FE-954F-19AE57BC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05D8A-3087-4FAF-BEA3-45BB5175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49EE05-0E08-4AC3-BE4D-898CBA24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BBBA01-35A9-40CB-B732-D43DEC85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B94762-3353-40C3-B3BB-10320347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47B944-01C1-435B-AE20-C2F0E01E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21898E-8FED-47E1-A33B-49BA376F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5378CB-60EE-4131-A67D-07F64BDA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8FF3CE-0BB9-487F-8B76-9AF8BF50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5F6869-2009-4AAF-9E91-EF68C1DC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B5320D-989A-4870-A96B-0BF725A0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F7234E-5F98-41BB-8BF1-B89754D4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68E0F-3D1F-4977-8D49-254B638F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40F549-D8BC-4C09-9C3F-E6C4FB78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510624-9004-4893-A6B4-0EFB4E22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2C1EA2-0E24-4FE0-9BF3-E1F0E199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53D0CB-73FA-4557-8D86-034FF585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1666FE-95CE-4065-9841-0DBCF564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CE8326-5B85-468D-8463-410E0229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5648B9-FC1B-4DA2-9FCA-6EC363FF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CE1F7C-41F1-488D-A7BA-77D6458B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BEFC30-704C-4BA6-9E71-DC0B817D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1B991E-0371-4ACF-89BB-97D55024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8258A-EC09-4FA5-AB5E-54EB35F5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5C37E4-6117-4AB1-B1B4-253FE44A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F17AA1-D065-4630-9D5A-5E687054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6554D2-D0DF-408C-A609-145A68A3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BBB06C-8C31-4EB9-AA0F-AEBF438D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E8DF17-3ED5-4F14-8A66-7635343B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D75BD3-78D7-44D8-BD62-A96D90B1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0E6EEC-D20F-4FA6-8AF9-266312EE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6B3F33-2F46-49B4-90DA-D57B7CE7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000AF3-AD50-43D7-85EC-11AB8574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E1E924-06A8-42A4-9E5C-C54D1115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CC7C-E344-43B7-9272-6D0AEFDA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7BBAC2-9311-459E-9654-D39C53AE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C9BC99-F626-4381-AB48-B1D522DE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F4692E-CE12-44BB-9B90-11C61F55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0A2024-0C80-4EC0-BCCC-6C7886C9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0A1060-54F8-44EF-8A04-B28000BB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25DACF-2BF0-4D8E-94C6-BA2B44AC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B3B8D3-04D1-4825-930A-A6068B3E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F8D659-9441-4ABD-B805-8C9CB260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018D13-3DE4-4923-BBFC-7CA4D00A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17AABE-8BEF-4F27-9498-0427BEE0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011-1CEB-400C-9A35-1B7B4C29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C9F94-3199-42DB-961D-A3AC249B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D279B7-8777-4CC4-9160-90134A98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517ED5-21BD-44A4-89A2-F50BE4E2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ED9D37-F4C3-43C1-B32C-49BA0E12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0509A0-5B53-4DF9-BB04-070E5D94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D18BB2-0629-4256-9EA2-73CCAE60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D2AD22-7D44-4314-AECE-B16B35D6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EDE21A-B108-4BE3-BCE7-85EC03FC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9F6959-1963-4935-80F1-1E5F298C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178E9D-3EC1-4462-A450-F8155FC0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3D40A0-02D8-4617-9A2C-E12C71C6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FB361-AE60-4DFE-94D9-C5E64E43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0014F6-9131-4D25-8683-6B991EE0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78D607-642C-40D0-B9B6-C5B7B5D4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7A7285-1028-4A20-97BC-13FD9FED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66E9F8-640C-4574-98DB-0B422480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4B4DE0-D2C4-473E-91C4-3F15028B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A8CB7F-19BF-43E4-AEC7-E59D5E4B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06242F-29AD-465B-829B-70D8F3FF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B1ECA6-776B-4B0B-925B-67607D04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8D3FC0-EE0F-4517-B578-1E4B68F8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996BE4-B425-4723-8A5A-CC131B55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04DE6-5496-4389-8077-97DE1A64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EE4372-AEA8-4E2A-BAB1-E1699BDF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260923-1459-4BA6-8161-A1012E7C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2B54C2-E457-4C55-B5EE-D5B843F6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CE4E88-47B4-45F1-9D6C-27D2FA01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338D1C-4911-48A1-9764-97BE0E31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A89883-3836-4824-B3A2-3813A724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58CB6E-0F0F-4625-9B95-B7BBFFD1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8AD41C-6E98-49AB-9413-17630A5C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7E2F7D-69EA-4CB6-B201-F7CDDC9A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B9D8F7-544D-49ED-B99B-A20A56B8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6F22D-D37E-415A-BEE0-31803563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3F71DF-B06B-466F-BFB5-DE20F03A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391A84-1350-4C2C-B47F-FABC4575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86AE88-CE05-43F2-85A5-611C7DD4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1443D6-7B6C-412E-B356-729D65D8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E4BA06-7B60-4C67-8E76-3D116192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035398-EFEF-4EE5-BB4B-FB8E224E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5E4D57-2512-4C42-AE84-38B4CC0A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FE74ED-C5D5-41B5-A996-B784E13F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0DCD6C-501E-4680-B1FF-AB44F665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74A9B1-F60C-4843-BF39-F90D99D9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7E06F-CA72-4058-89E6-A348397F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557DA9-1B95-4364-A728-1CBC9871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620D2E-1FF0-4C03-A4FC-4E81A57A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E02C89-C401-4015-9014-DF38DE21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D86964-9064-4E6C-A5BA-4459E80E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AA02E7-AAE9-4BC0-B5B4-2BB08218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99D2750-B78A-4072-AABC-14C82E98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694A77-EDA9-41FC-BE9C-146FF9CA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498844-F3FF-4C0C-BD1B-4949A1D1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EB3A30-F7A3-4734-A3CC-C9C13A40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40F2E7-47CE-4502-9149-223FED78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84480-78F1-4541-9F72-95DF57B2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40CE77-1217-4448-B05C-3B9A4368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C197B8-7467-47DB-8AAC-9EA1437E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FAA4A5-25F1-4664-AD51-3247123B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4B261B-8488-40C0-ADE0-BA78B3E8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AF01B7-B526-48F9-984D-25B24239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B7F5C0-2767-4530-A048-8D2F8817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215B55-4ACE-400A-A235-9FF817DF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18F16A-48EB-4A94-AACF-B7B2CBAB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AAC04C-EA74-4C82-AF0B-C1785CCE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0821C9-A702-4B59-8285-5189AF11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A2934-BF5A-4B28-B244-340C88B3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AD69E8-DA90-42A0-B7FB-0AF3DFEA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7104A5-2CBA-4EA9-A383-1BE0A799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C7A875-4BA1-4529-ADEC-89F66658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3890D4-1499-4A6F-A35A-F7766FFA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5D6D61-722E-4B00-932C-39BB848D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DC7842-1C18-4B84-B7D6-75CB025D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C9ECF6-1642-4CEE-8F13-13F2EEFD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F9568E-A9AA-4740-944B-FE4E7293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F33B71-1B94-4C1E-890B-521E76E0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EF4C01-D523-411B-92B2-23994BEE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D15F9-E018-4135-BB06-F0B4608A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72B27D-5BF7-467D-8886-39ACEBAE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E56105-4737-486C-9002-2C6BC59F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E2A04B-8076-439D-8066-EA08FC05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9869A-A7CD-4755-A29F-E6768596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8DF7C-D279-4DA4-8330-76D00E21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BEA9-FFF4-4201-9028-245EA203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383F1-D917-4576-A83B-411AE876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A5DB5-3C8C-4C49-8555-65595B10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1678E-1614-4049-8FC3-AF54A099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51737-B17F-413E-8988-77388FBA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72835-7A90-4510-AEA7-00273D1A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DBC5E-DF49-4A67-877A-668E8D88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03432-310E-4960-A35F-C9C64F93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4503A-4FDE-4378-B0A8-DE973124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88ADE-4793-428E-922E-A1D06510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01671-DCAD-471F-82B5-61EE25E1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D191-EED7-41C9-B549-1FD94F81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FD68F-9592-4B40-8FC2-B843D12A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0FEF1-EB52-485C-84D8-A23B2405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1A409-2250-4BAF-943C-602F2903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0DEAE-AD24-445F-A2CE-B4AC2558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0A5E4-C5EC-43EE-9911-420A2B65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D62A7-04B1-4CD3-BD89-FFAA9E93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FDEA2-A8FE-4A07-87AE-53140B0B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EBC9D-582F-432E-AD61-09785A90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9F70A-8114-4220-B4C7-44054346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12E99-F768-42FA-80B0-05934EB7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0BF1-3568-45A7-BC61-4EEB8DE3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0D249-CBB7-4604-A822-7A76CDFA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87850-A158-48C9-ACDE-5EC7B783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E5E47-C7CA-44C9-95DA-FE2BE774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D5948-B60B-4E35-B5CE-8B226A70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D615E-0671-4352-96CA-69FE6B18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BE41A-2B1B-4CE2-89A7-E9A24CC2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E2679-A2F1-4BDF-80D8-53E62A43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4C4AB-FC88-49EC-9BD7-41235681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C649F-45C5-4A89-B591-D1D7072A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F698D-2225-4F89-B143-B3AF7E54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C8C-38A3-4094-90DF-F24625A1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3CF54-2981-4FBF-97F9-08EEB843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2B824-5089-49A9-8936-5827AF01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CF8C9-099B-4170-8BE3-3B4287B7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1EC3A-2FFE-4805-B69D-8CB48DF6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7FD63-1E72-423B-A0D6-7211D7C1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E1532-CDCD-4B96-9F98-C0FD7E22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FF9A3-1EFC-457F-AAC3-E7C86C8F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52A90-8067-4328-9F67-07155D4F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4DDC8-EBCC-47EC-9306-6653E13F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60A65-FE8A-419A-ACEE-0481A9EB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4A5-75A2-43E8-BA1B-583D6439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8DF88-B731-45E3-9643-F73112A8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32816-80C4-45A9-88E1-D28C3DF8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F1264-E5EC-488A-8D1B-50C6557B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1AE62-ED8F-4B0B-9971-CC9EC278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51B45-576C-4687-BEB6-15280E89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E6A3E-6D52-4967-A430-ED90B306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2E3C9-64C7-4F16-8C95-4F4FAEE3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B097B-9FE1-4C8C-B413-5D24097B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5AC32-AB11-461E-A759-55C50D02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A02CA-3ACF-4724-B0C9-C685D112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D4D2-D13E-485C-ACE2-71B3E9EC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032FD-A0C2-4F20-9D65-7BFE37B6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D1E97-85C7-48DC-9F59-A449F7BD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FB787-F763-4CEF-8C15-4C60A124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32D13-BA96-4332-B68F-AD0FC1FE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3881D-CDDA-44B8-8069-6F0F911B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40CB3-9866-4DCB-A65A-64956A7C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BBD29-8A7A-4690-B49C-7793D143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C45C3-FF3B-416D-981C-4A5D7C95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80062-C623-449A-9A28-2AD3FB62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D3695-1D72-4146-97DA-797CACBE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22CC-4A06-4680-8C10-AE393C2C07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40DF-47D1-4D53-A74C-FC65DB6420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B295-7B3D-4191-9C3B-5B8D7C9A1E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AA0C-ECDE-4F7B-A3BD-69058F617E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81CA-8708-4320-B8AA-AF041120CA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DAA0-16D8-437B-82EE-03511E0941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4412-291D-45EB-9BC7-672EE180DD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2878-FB13-480E-B739-0E6050DA7A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3E18-4EAE-49AA-A0BD-49A25CDB7D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857B-E1E9-47F7-8764-A93E9FA4B8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4D1F-C397-44D9-A257-6463C38D8B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9DCD-1B53-488A-9DD1-ECEBF9FEEF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4787-0B4A-4486-9607-D8A42B7D28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978A-B5D8-46E4-BFB8-06A43A8918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2685-0864-46D0-A448-0CC0E45B5F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D71E-8CBA-4544-97D5-354CD75511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DFC8-7AEB-46F2-A306-8054D43504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8DA3-F2BD-4CEB-9147-C6A8A4D529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EE29-FAA7-451F-8348-6F3449ACC0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3EFD-CD34-4D69-92CE-3FBC2372C3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DD42-EC59-4862-9A5C-055C1F605C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9224-F331-4118-BC19-45951D9B53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13F2-835B-48EE-ABB3-1C7E552133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AFB9-DAAE-485C-A738-1EDAD50607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72AD-5617-4008-9609-391E67601D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A217-71E5-43CF-B4A4-A65E4519B1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23D2-8B1F-4985-A40F-B743CD8B6B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D11A-1560-43E2-A790-A2E5269B55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D588-6EA4-4A37-9E24-04E4BCF48B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0DC8-FEAD-488D-ABC2-C3B8A60E08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7472-53A8-48E8-9575-F4E3088619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EC4F-C017-4E8E-8EE5-532609BF11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BB3B-0B83-4536-9E3C-DD0FCB8F7B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DB2A-6560-426A-AF37-98C113D9C3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2386-190C-45C9-A7AD-ED6FC9E595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5DC8-7BCE-47D5-8A93-CD4BB0078E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F0EB-2287-45E1-9D37-78F3DD963C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BA1F-8A64-47FB-80CB-DDF326A836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7FA7-A107-4691-8859-B4CDE35A55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4408-B0C0-48F1-A478-7562D8C26B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BD27-9968-4F2D-B891-304B01A616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7097-7E40-4227-AA51-49DC367F27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4BB2-94DC-458F-A656-DBA3DD655D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847B-E8B5-469A-BAF6-331E3368F3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A39F-4C4E-4DA0-B7F5-3E404CB12A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9B18-F1C1-46E7-B882-546FC3A709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43A1-683C-4F34-9471-13D2D89BB0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578C-8A8E-4E06-9522-81DB65EDAA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DA70-7A07-49C9-A255-4581B4ABCA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570C-6F0D-43CE-9E8A-5231E8087D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2448000" cy="75276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1" descr=""/>
          <p:cNvPicPr/>
          <p:nvPr/>
        </p:nvPicPr>
        <p:blipFill>
          <a:blip r:embed="rId2"/>
          <a:stretch/>
        </p:blipFill>
        <p:spPr>
          <a:xfrm>
            <a:off x="1442880" y="3110040"/>
            <a:ext cx="625824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79873" descr=""/>
          <p:cNvPicPr/>
          <p:nvPr/>
        </p:nvPicPr>
        <p:blipFill>
          <a:blip r:embed="rId1"/>
          <a:stretch/>
        </p:blipFill>
        <p:spPr>
          <a:xfrm>
            <a:off x="728640" y="1766880"/>
            <a:ext cx="7686720" cy="3324240"/>
          </a:xfrm>
          <a:prstGeom prst="rect">
            <a:avLst/>
          </a:prstGeom>
          <a:ln w="0">
            <a:noFill/>
          </a:ln>
        </p:spPr>
      </p:pic>
      <p:sp>
        <p:nvSpPr>
          <p:cNvPr id="1449" name="矩形 79874"/>
          <p:cNvSpPr/>
          <p:nvPr/>
        </p:nvSpPr>
        <p:spPr>
          <a:xfrm>
            <a:off x="3111480" y="2314440"/>
            <a:ext cx="7034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79875"/>
          <p:cNvSpPr/>
          <p:nvPr/>
        </p:nvSpPr>
        <p:spPr>
          <a:xfrm>
            <a:off x="2320920" y="3305160"/>
            <a:ext cx="7034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79876"/>
          <p:cNvSpPr/>
          <p:nvPr/>
        </p:nvSpPr>
        <p:spPr>
          <a:xfrm>
            <a:off x="6273720" y="4257720"/>
            <a:ext cx="1251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78849" descr=""/>
          <p:cNvPicPr/>
          <p:nvPr/>
        </p:nvPicPr>
        <p:blipFill>
          <a:blip r:embed="rId1"/>
          <a:stretch/>
        </p:blipFill>
        <p:spPr>
          <a:xfrm>
            <a:off x="466560" y="1947960"/>
            <a:ext cx="821088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77825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679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76801" descr=""/>
          <p:cNvPicPr/>
          <p:nvPr/>
        </p:nvPicPr>
        <p:blipFill>
          <a:blip r:embed="rId1"/>
          <a:stretch/>
        </p:blipFill>
        <p:spPr>
          <a:xfrm>
            <a:off x="709560" y="1486080"/>
            <a:ext cx="7724880" cy="3886200"/>
          </a:xfrm>
          <a:prstGeom prst="rect">
            <a:avLst/>
          </a:prstGeom>
          <a:ln w="0">
            <a:noFill/>
          </a:ln>
        </p:spPr>
      </p:pic>
      <p:sp>
        <p:nvSpPr>
          <p:cNvPr id="1455" name="矩形 76802"/>
          <p:cNvSpPr/>
          <p:nvPr/>
        </p:nvSpPr>
        <p:spPr>
          <a:xfrm>
            <a:off x="4435560" y="1542960"/>
            <a:ext cx="12888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76803"/>
          <p:cNvSpPr/>
          <p:nvPr/>
        </p:nvSpPr>
        <p:spPr>
          <a:xfrm>
            <a:off x="7797960" y="2505240"/>
            <a:ext cx="5904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76804"/>
          <p:cNvSpPr/>
          <p:nvPr/>
        </p:nvSpPr>
        <p:spPr>
          <a:xfrm>
            <a:off x="1282680" y="3009960"/>
            <a:ext cx="5904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76805"/>
          <p:cNvSpPr/>
          <p:nvPr/>
        </p:nvSpPr>
        <p:spPr>
          <a:xfrm>
            <a:off x="4835520" y="4448160"/>
            <a:ext cx="8888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89089" descr=""/>
          <p:cNvPicPr/>
          <p:nvPr/>
        </p:nvPicPr>
        <p:blipFill>
          <a:blip r:embed="rId1"/>
          <a:stretch/>
        </p:blipFill>
        <p:spPr>
          <a:xfrm>
            <a:off x="704880" y="2205000"/>
            <a:ext cx="7734240" cy="2448000"/>
          </a:xfrm>
          <a:prstGeom prst="rect">
            <a:avLst/>
          </a:prstGeom>
          <a:ln w="0">
            <a:noFill/>
          </a:ln>
        </p:spPr>
      </p:pic>
      <p:sp>
        <p:nvSpPr>
          <p:cNvPr id="1460" name="矩形 89090"/>
          <p:cNvSpPr/>
          <p:nvPr/>
        </p:nvSpPr>
        <p:spPr>
          <a:xfrm>
            <a:off x="1606680" y="4219560"/>
            <a:ext cx="70308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90113" descr=""/>
          <p:cNvPicPr/>
          <p:nvPr/>
        </p:nvPicPr>
        <p:blipFill>
          <a:blip r:embed="rId1"/>
          <a:stretch/>
        </p:blipFill>
        <p:spPr>
          <a:xfrm>
            <a:off x="528480" y="1228680"/>
            <a:ext cx="8087040" cy="4400640"/>
          </a:xfrm>
          <a:prstGeom prst="rect">
            <a:avLst/>
          </a:prstGeom>
          <a:ln w="0">
            <a:noFill/>
          </a:ln>
        </p:spPr>
      </p:pic>
      <p:sp>
        <p:nvSpPr>
          <p:cNvPr id="1462" name="矩形 90114"/>
          <p:cNvSpPr/>
          <p:nvPr/>
        </p:nvSpPr>
        <p:spPr>
          <a:xfrm>
            <a:off x="3568680" y="2276640"/>
            <a:ext cx="703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90115"/>
          <p:cNvSpPr/>
          <p:nvPr/>
        </p:nvSpPr>
        <p:spPr>
          <a:xfrm>
            <a:off x="2711520" y="5162400"/>
            <a:ext cx="27972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91137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601040" cy="5657760"/>
          </a:xfrm>
          <a:prstGeom prst="rect">
            <a:avLst/>
          </a:prstGeom>
          <a:ln w="0">
            <a:noFill/>
          </a:ln>
        </p:spPr>
      </p:pic>
      <p:sp>
        <p:nvSpPr>
          <p:cNvPr id="1465" name="矩形 91138"/>
          <p:cNvSpPr/>
          <p:nvPr/>
        </p:nvSpPr>
        <p:spPr>
          <a:xfrm>
            <a:off x="7524720" y="1316160"/>
            <a:ext cx="5349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91139"/>
          <p:cNvSpPr/>
          <p:nvPr/>
        </p:nvSpPr>
        <p:spPr>
          <a:xfrm>
            <a:off x="6227640" y="5545080"/>
            <a:ext cx="20894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91140"/>
          <p:cNvSpPr/>
          <p:nvPr/>
        </p:nvSpPr>
        <p:spPr>
          <a:xfrm>
            <a:off x="1332000" y="6064200"/>
            <a:ext cx="251928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92161" descr=""/>
          <p:cNvPicPr/>
          <p:nvPr/>
        </p:nvPicPr>
        <p:blipFill>
          <a:blip r:embed="rId1"/>
          <a:stretch/>
        </p:blipFill>
        <p:spPr>
          <a:xfrm>
            <a:off x="514440" y="752400"/>
            <a:ext cx="81151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9318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5610240" cy="2199960"/>
          </a:xfrm>
          <a:prstGeom prst="rect">
            <a:avLst/>
          </a:prstGeom>
          <a:ln w="0">
            <a:noFill/>
          </a:ln>
        </p:spPr>
      </p:pic>
      <p:pic>
        <p:nvPicPr>
          <p:cNvPr id="1470" name="图片 93186" descr=""/>
          <p:cNvPicPr/>
          <p:nvPr/>
        </p:nvPicPr>
        <p:blipFill>
          <a:blip r:embed="rId2"/>
          <a:stretch/>
        </p:blipFill>
        <p:spPr>
          <a:xfrm>
            <a:off x="1476360" y="3860640"/>
            <a:ext cx="6838920" cy="524160"/>
          </a:xfrm>
          <a:prstGeom prst="rect">
            <a:avLst/>
          </a:prstGeom>
          <a:ln w="0">
            <a:noFill/>
          </a:ln>
        </p:spPr>
      </p:pic>
      <p:sp>
        <p:nvSpPr>
          <p:cNvPr id="1471" name="矩形 93187"/>
          <p:cNvSpPr/>
          <p:nvPr/>
        </p:nvSpPr>
        <p:spPr>
          <a:xfrm>
            <a:off x="3740040" y="1981080"/>
            <a:ext cx="50652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94209" descr=""/>
          <p:cNvPicPr/>
          <p:nvPr/>
        </p:nvPicPr>
        <p:blipFill>
          <a:blip r:embed="rId1"/>
          <a:stretch/>
        </p:blipFill>
        <p:spPr>
          <a:xfrm>
            <a:off x="666720" y="1128600"/>
            <a:ext cx="7810560" cy="4600800"/>
          </a:xfrm>
          <a:prstGeom prst="rect">
            <a:avLst/>
          </a:prstGeom>
          <a:ln w="0">
            <a:noFill/>
          </a:ln>
        </p:spPr>
      </p:pic>
      <p:sp>
        <p:nvSpPr>
          <p:cNvPr id="1473" name="矩形 94210"/>
          <p:cNvSpPr/>
          <p:nvPr/>
        </p:nvSpPr>
        <p:spPr>
          <a:xfrm>
            <a:off x="2673360" y="2057400"/>
            <a:ext cx="50652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94211"/>
          <p:cNvSpPr/>
          <p:nvPr/>
        </p:nvSpPr>
        <p:spPr>
          <a:xfrm>
            <a:off x="1596960" y="4838760"/>
            <a:ext cx="50652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88065" descr=""/>
          <p:cNvPicPr/>
          <p:nvPr/>
        </p:nvPicPr>
        <p:blipFill>
          <a:blip r:embed="rId1"/>
          <a:stretch/>
        </p:blipFill>
        <p:spPr>
          <a:xfrm>
            <a:off x="509760" y="1133640"/>
            <a:ext cx="812448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95233" descr=""/>
          <p:cNvPicPr/>
          <p:nvPr/>
        </p:nvPicPr>
        <p:blipFill>
          <a:blip r:embed="rId1"/>
          <a:stretch/>
        </p:blipFill>
        <p:spPr>
          <a:xfrm>
            <a:off x="476280" y="804960"/>
            <a:ext cx="8191440" cy="5248080"/>
          </a:xfrm>
          <a:prstGeom prst="rect">
            <a:avLst/>
          </a:prstGeom>
          <a:ln w="0">
            <a:noFill/>
          </a:ln>
        </p:spPr>
      </p:pic>
      <p:sp>
        <p:nvSpPr>
          <p:cNvPr id="1476" name="矩形 95234"/>
          <p:cNvSpPr/>
          <p:nvPr/>
        </p:nvSpPr>
        <p:spPr>
          <a:xfrm>
            <a:off x="7731000" y="3381480"/>
            <a:ext cx="50652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96257" descr=""/>
          <p:cNvPicPr/>
          <p:nvPr/>
        </p:nvPicPr>
        <p:blipFill>
          <a:blip r:embed="rId1"/>
          <a:stretch/>
        </p:blipFill>
        <p:spPr>
          <a:xfrm>
            <a:off x="461880" y="843120"/>
            <a:ext cx="8220240" cy="5171760"/>
          </a:xfrm>
          <a:prstGeom prst="rect">
            <a:avLst/>
          </a:prstGeom>
          <a:ln w="0">
            <a:noFill/>
          </a:ln>
        </p:spPr>
      </p:pic>
      <p:sp>
        <p:nvSpPr>
          <p:cNvPr id="1478" name="矩形 96258"/>
          <p:cNvSpPr/>
          <p:nvPr/>
        </p:nvSpPr>
        <p:spPr>
          <a:xfrm>
            <a:off x="7797960" y="2400480"/>
            <a:ext cx="5061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97281" descr=""/>
          <p:cNvPicPr/>
          <p:nvPr/>
        </p:nvPicPr>
        <p:blipFill>
          <a:blip r:embed="rId1"/>
          <a:stretch/>
        </p:blipFill>
        <p:spPr>
          <a:xfrm>
            <a:off x="457200" y="866880"/>
            <a:ext cx="8229600" cy="5124240"/>
          </a:xfrm>
          <a:prstGeom prst="rect">
            <a:avLst/>
          </a:prstGeom>
          <a:ln w="0">
            <a:noFill/>
          </a:ln>
        </p:spPr>
      </p:pic>
      <p:sp>
        <p:nvSpPr>
          <p:cNvPr id="1480" name="矩形 97282"/>
          <p:cNvSpPr/>
          <p:nvPr/>
        </p:nvSpPr>
        <p:spPr>
          <a:xfrm>
            <a:off x="1149480" y="2886120"/>
            <a:ext cx="219852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1" name="图片 97283" descr=""/>
          <p:cNvPicPr/>
          <p:nvPr/>
        </p:nvPicPr>
        <p:blipFill>
          <a:blip r:embed="rId2"/>
          <a:stretch/>
        </p:blipFill>
        <p:spPr>
          <a:xfrm>
            <a:off x="3635280" y="3068640"/>
            <a:ext cx="36864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98305" descr=""/>
          <p:cNvPicPr/>
          <p:nvPr/>
        </p:nvPicPr>
        <p:blipFill>
          <a:blip r:embed="rId1"/>
          <a:stretch/>
        </p:blipFill>
        <p:spPr>
          <a:xfrm>
            <a:off x="500040" y="2009880"/>
            <a:ext cx="81439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87041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76960" cy="4572000"/>
          </a:xfrm>
          <a:prstGeom prst="rect">
            <a:avLst/>
          </a:prstGeom>
          <a:ln w="0">
            <a:noFill/>
          </a:ln>
        </p:spPr>
      </p:pic>
      <p:sp>
        <p:nvSpPr>
          <p:cNvPr id="1436" name="矩形 87042"/>
          <p:cNvSpPr/>
          <p:nvPr/>
        </p:nvSpPr>
        <p:spPr>
          <a:xfrm>
            <a:off x="7740720" y="256536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86017" descr=""/>
          <p:cNvPicPr/>
          <p:nvPr/>
        </p:nvPicPr>
        <p:blipFill>
          <a:blip r:embed="rId1"/>
          <a:stretch/>
        </p:blipFill>
        <p:spPr>
          <a:xfrm>
            <a:off x="1038240" y="2128680"/>
            <a:ext cx="706752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84993" descr=""/>
          <p:cNvPicPr/>
          <p:nvPr/>
        </p:nvPicPr>
        <p:blipFill>
          <a:blip r:embed="rId1"/>
          <a:stretch/>
        </p:blipFill>
        <p:spPr>
          <a:xfrm>
            <a:off x="523800" y="1743120"/>
            <a:ext cx="8096400" cy="3371760"/>
          </a:xfrm>
          <a:prstGeom prst="rect">
            <a:avLst/>
          </a:prstGeom>
          <a:ln w="0">
            <a:noFill/>
          </a:ln>
        </p:spPr>
      </p:pic>
      <p:sp>
        <p:nvSpPr>
          <p:cNvPr id="1439" name="矩形 84994"/>
          <p:cNvSpPr/>
          <p:nvPr/>
        </p:nvSpPr>
        <p:spPr>
          <a:xfrm>
            <a:off x="7740720" y="2637000"/>
            <a:ext cx="50328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83969" descr=""/>
          <p:cNvPicPr/>
          <p:nvPr/>
        </p:nvPicPr>
        <p:blipFill>
          <a:blip r:embed="rId1"/>
          <a:stretch/>
        </p:blipFill>
        <p:spPr>
          <a:xfrm>
            <a:off x="447840" y="1057320"/>
            <a:ext cx="8248320" cy="4743360"/>
          </a:xfrm>
          <a:prstGeom prst="rect">
            <a:avLst/>
          </a:prstGeom>
          <a:ln w="0">
            <a:noFill/>
          </a:ln>
        </p:spPr>
      </p:pic>
      <p:sp>
        <p:nvSpPr>
          <p:cNvPr id="1441" name="矩形 83970"/>
          <p:cNvSpPr/>
          <p:nvPr/>
        </p:nvSpPr>
        <p:spPr>
          <a:xfrm>
            <a:off x="7812000" y="1557360"/>
            <a:ext cx="50328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82945" descr=""/>
          <p:cNvPicPr/>
          <p:nvPr/>
        </p:nvPicPr>
        <p:blipFill>
          <a:blip r:embed="rId1"/>
          <a:stretch/>
        </p:blipFill>
        <p:spPr>
          <a:xfrm>
            <a:off x="466560" y="2443320"/>
            <a:ext cx="821088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81921" descr=""/>
          <p:cNvPicPr/>
          <p:nvPr/>
        </p:nvPicPr>
        <p:blipFill>
          <a:blip r:embed="rId1"/>
          <a:stretch/>
        </p:blipFill>
        <p:spPr>
          <a:xfrm>
            <a:off x="485640" y="785880"/>
            <a:ext cx="8172720" cy="5286240"/>
          </a:xfrm>
          <a:prstGeom prst="rect">
            <a:avLst/>
          </a:prstGeom>
          <a:ln w="0">
            <a:noFill/>
          </a:ln>
        </p:spPr>
      </p:pic>
      <p:sp>
        <p:nvSpPr>
          <p:cNvPr id="1444" name="矩形 81922"/>
          <p:cNvSpPr/>
          <p:nvPr/>
        </p:nvSpPr>
        <p:spPr>
          <a:xfrm>
            <a:off x="6416640" y="5157720"/>
            <a:ext cx="111276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80897" descr=""/>
          <p:cNvPicPr/>
          <p:nvPr/>
        </p:nvPicPr>
        <p:blipFill>
          <a:blip r:embed="rId1"/>
          <a:stretch/>
        </p:blipFill>
        <p:spPr>
          <a:xfrm>
            <a:off x="700200" y="976320"/>
            <a:ext cx="7743600" cy="4905360"/>
          </a:xfrm>
          <a:prstGeom prst="rect">
            <a:avLst/>
          </a:prstGeom>
          <a:ln w="0">
            <a:noFill/>
          </a:ln>
        </p:spPr>
      </p:pic>
      <p:sp>
        <p:nvSpPr>
          <p:cNvPr id="1446" name="矩形 80898"/>
          <p:cNvSpPr/>
          <p:nvPr/>
        </p:nvSpPr>
        <p:spPr>
          <a:xfrm>
            <a:off x="5073480" y="4076640"/>
            <a:ext cx="7034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80899"/>
          <p:cNvSpPr/>
          <p:nvPr/>
        </p:nvSpPr>
        <p:spPr>
          <a:xfrm>
            <a:off x="2625840" y="5029200"/>
            <a:ext cx="70308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47:31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